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58004"/>
        <c:axId val="51702580"/>
      </c:barChart>
      <c:catAx>
        <c:axId val="17358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02580"/>
        <c:crosses val="autoZero"/>
        <c:auto val="1"/>
        <c:lblAlgn val="ctr"/>
        <c:lblOffset val="100"/>
        <c:noMultiLvlLbl val="0"/>
      </c:catAx>
      <c:valAx>
        <c:axId val="51702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8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332-8CAE-4CB9-8681-3AE2FF3D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F30-DD8F-4DB1-A946-60E2139E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DA0-4AE1-4453-AB5C-C889D194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8E7-A9ED-4315-B22B-E0C7A043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026-9729-4E12-89A3-D1CCD76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A8C-E587-4A64-846D-C35177DC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3DD-854B-471D-ACB7-8BCD963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0A4-1F47-4E4A-8082-31336C48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49C-9652-43BE-BB96-7BE5942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310-87F0-4FD5-BADD-C54EA88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6EC-7913-415C-8EBB-CE7BD46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ED3-70C9-4C44-86E2-95D954C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4A22-D627-4A71-9C02-68A0176A0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